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F4C2-95E7-41AA-A320-3A1466B065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ject/Verb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 the sharing of di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nner 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as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n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32. Write the correct answer for each of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randpa and Billy (build, builds) a special tr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 (see, sees) Grandpa was serious and I get inter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ons (jump, jumps) at the opportunity to steal a shiny piece of me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y (carry, carries) the trap to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Neither Grandpa nor the coons (give, gives) up on the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He (carry, carries) out our knives, forks, and sp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s and verbs must work together. They must agree. A verb that does not end in a single s, es, or ies is used with a plural noun. These pronoun subjects - I, we, you, or they – are also used with the plural verb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Anything that was bright and shinny, he (take, takes) to his 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Mama and Papa (catch, catches) me cutting out the circles of tin with the good sciss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My mother's old churn (topple, topples) over and spills the bu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Everything (go, goes) in the trash pi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Papa's words (perk, perks) me up just like air does a deflated inner tu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orning after morning I (feel, feels) the same old disappoin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The family (sit, sits) down to breakf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eeks (go, goes)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ama (yell, yells) something to him about a sn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Neither Little Ann nor Old Dan (see, sees) the racc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t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of all varieties train their noses to follow specific sc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c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by the river catch raccoons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in a hollow log make a good raccoon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Each (freeze, freezes) in his tr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Mama’s hot apple pie (grow, grows) cold waiting on the hunters to retu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 Each of the men (catch, catches) three c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Billy, as well as his Papa, (feel, feels) using a shotgun is unfair in a coon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 Neither Little Ann or Old Dan (give, gives) the raccoon a lead in the c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 Standing there looking happy (was, were) Grandpa an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 Eight pounds of cheese (is, are) heavy to car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Only one out of five boys in America (like, likes) to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The news of the coon hunt (spread, spreads) through the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Fifty dollars (was, were) a lot of money for Billy to ea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 he will catch a raccoon in anoth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 raccoons down in the vall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At the end of a long trip (come, comes) a victorious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  Which of the following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urn the boy pup lo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art in and grab him by the hind le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pup under each arm Billy run for th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and Papa yells something to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shout, "Where did it bite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sisters jumps up and hug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looks at me, smile, and turns to the gir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answers surprise Ma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eems fine to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rls bury their faces in Mama's 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whack him again and it was all o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smile when they realize Billy is not h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ch trees leans out over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tout legs help with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n hunting teach Billy to be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grandfather's store sit on top of the mou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pa ki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Little Ann or Old Dan fall in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seems like a long time for a 12 year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ears the wind in the top of th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nouns I and you are singular you use the plural forms of the verb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Billy will catch a raccoon s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 your boots the trap will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ules about subject verb agreement, but we are going to cover just one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 confused by subjects that come at the end of the sen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as Billy’s parents. (Turn the sentence around and it will be clearer. Billy’s parents was standing in the back of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ere Billy’s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 the passing out of trophies. (Turn the sentence around and it will be clearer. The passing out of trophies come at the end of the coon h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s the passing out of 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6DDFC-2CAD-4D97-836A-6ABBFEC8C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BF6BE-9B3F-42AB-B236-2D00C981A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74315-5676-402F-BBB7-664780EA5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CB8F1-FF55-4966-8C33-4505294B9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CADCDC-D43B-4AB3-B453-99A7BBBBB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8F870-F9C8-476D-9DDA-32C86D140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3A38E-B3A4-4FB9-9BB8-41023B070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93D6F-29CD-492F-823C-81301C1CD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37A41-09EA-4D9A-AA30-06BF8CCCD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893A0-1EF6-45AF-AB25-CCB712C3B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C303C-62A3-4C17-95FC-60ECACF0E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C5E2B-299E-4C25-81B8-EB17DB87C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BD7D7-F7C5-45C6-9E9E-DDDC399CB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AF435-A355-4681-8C6F-673503F1E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BB95B-2317-4F26-8845-0374A0B18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281B8-8BE2-484D-85AC-68040A0AD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B613F-C24D-4BA8-BC8D-30D70AC31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7C639-FFAA-4B12-9544-D29DFBDD2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E8648-42B8-48DD-9604-A3878F264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E3A2B-89AF-4296-A42C-BB8AAA948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B25C6-9276-45EE-B451-42845E026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37246-B297-4649-9BF8-1B3B96372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31E5B-66B7-452F-B9CB-17C03A328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4F8B1-9BD9-49BB-B6B7-D611B38B8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164E-61FA-4840-B86A-1774B7CC12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D452-7AE5-4D2B-8A56-8F1328999D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ubject/Verb Agreement</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art 2</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 the sharing of dinner.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inner comes</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as three dirty men.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en were</a:t>
            </a: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Grandpa and Billy (build, builds) a special tra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I (see, sees) Grandpa was serious and I get interest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Coons (jump, jumps) at the opportunity to steal a shiny piece of meta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They (carry, carries) the trap 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Neither Grandpa nor the coons (give, gives) up on the pl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He (carry, carries) out our knives, forks, and sp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143000"/>
            <a:ext cx="8229600" cy="4952880"/>
          </a:xfrm>
          <a:prstGeom prst="rect">
            <a:avLst/>
          </a:prstGeom>
          <a:noFill/>
          <a:ln w="0">
            <a:noFill/>
          </a:ln>
        </p:spPr>
        <p:txBody>
          <a:bodyPr anchor="t">
            <a:normAutofit fontScale="99000"/>
          </a:bodyPr>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cts and verbs must work together. They must agree. A verb that does not end in a single s, es, or ies is used with a plural noun. These pronoun subjects - </a:t>
            </a:r>
            <a:r>
              <a:rPr b="1" lang="en-US" sz="4000" spc="-1" strike="noStrike">
                <a:solidFill>
                  <a:srgbClr val="ffffff"/>
                </a:solidFill>
                <a:latin typeface="Tahoma"/>
              </a:rPr>
              <a:t>I, we, you, or they – </a:t>
            </a:r>
            <a:r>
              <a:rPr b="0" lang="en-US" sz="4000" spc="-1" strike="noStrike">
                <a:solidFill>
                  <a:srgbClr val="ffffff"/>
                </a:solidFill>
                <a:latin typeface="Tahoma"/>
              </a:rPr>
              <a:t>are also used with the plural verb for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nything that was bright and shinny, he (take, takes) to his d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Mama and Papa (catch, catches) me cutting out the circles of tin with the good scissor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My mother's old churn (topple, topples) over and spills the butt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Everything (go, goes) in the trash p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Papa's words (perk, perks) me up just like air does a deflated inner tub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Morning after morning I (feel, feels) the same old disappointme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family (sit, sits) down to breakfa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Weeks (go, goes) b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Mama (yell, yells) something to him about a snak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Neither Little Ann nor Old Dan (see, sees) the raccoo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9" name="PlaceHolder 2"/>
          <p:cNvSpPr>
            <a:spLocks noGrp="1"/>
          </p:cNvSpPr>
          <p:nvPr>
            <p:ph/>
          </p:nvPr>
        </p:nvSpPr>
        <p:spPr>
          <a:xfrm>
            <a:off x="457200" y="1219320"/>
            <a:ext cx="8229600" cy="4495680"/>
          </a:xfrm>
          <a:prstGeom prst="rect">
            <a:avLst/>
          </a:prstGeom>
          <a:noFill/>
          <a:ln w="0">
            <a:noFill/>
          </a:ln>
        </p:spPr>
        <p:txBody>
          <a:bodyPr anchor="t">
            <a:normAutofit fontScale="81000"/>
          </a:bodyPr>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train</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of all varieties train their noses to follow specific scents.</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catch</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by the river catch raccoons quickly.</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make</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in a hollow log make a good raccoon trap.</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Each (freeze, freezes) in his track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Mama’s hot apple pie (grow, grows) cold waiting on the hunters to retu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Each of the men (catch, catches) three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Billy, as well as his Papa, (feel, feels) using a shotgun is unfair in a coon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Neither Little Ann or Old Dan (give, gives) the raccoon a lead in the chas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Standing there looking happy (was, were) Grandpa and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Eight pounds of cheese (is, are) heavy to carr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Only one out of five boys in America (like, likes) to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The news of the coon hunt (spread, spreads) through the hill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Fifty dollars (was, were) a lot of money for Billy to ea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Exampl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 he will catch a raccoon in another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 raccoons down in the valle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At the end of a long trip (come, comes) a victorious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8.  Which of the following is written correctly? </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urn the boy pup loo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dart in and grab him by the hind leg.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th a pup under each arm Billy run for the hou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nd Papa yells something to hi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9. Which of the following sentences does not contain a mistake? </a:t>
            </a:r>
            <a:endParaRPr b="0" lang="en-US" sz="4000" spc="-1" strike="noStrike">
              <a:solidFill>
                <a:srgbClr val="ffffcc"/>
              </a:solidFill>
              <a:latin typeface="Tahoma"/>
            </a:endParaRPr>
          </a:p>
        </p:txBody>
      </p:sp>
      <p:sp>
        <p:nvSpPr>
          <p:cNvPr id="145" name="PlaceHolder 2"/>
          <p:cNvSpPr>
            <a:spLocks noGrp="1"/>
          </p:cNvSpPr>
          <p:nvPr>
            <p:ph/>
          </p:nvPr>
        </p:nvSpPr>
        <p:spPr>
          <a:xfrm>
            <a:off x="457200" y="1752120"/>
            <a:ext cx="8229600" cy="4953240"/>
          </a:xfrm>
          <a:prstGeom prst="rect">
            <a:avLst/>
          </a:prstGeom>
          <a:noFill/>
          <a:ln w="0">
            <a:noFill/>
          </a:ln>
        </p:spPr>
        <p:txBody>
          <a:bodyPr anchor="t">
            <a:normAutofit/>
          </a:bodyPr>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he shout, "Where did it bite you?"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sisters jumps up and hug me.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looks at me, smile, and turns to the girls.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ir answers surprise Mam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0. Choose the answer that is written correctly. </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ou seems fine to m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girls bury their faces in Mama's dress.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whack him again and it was all o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verybody smile when they realize Billy is not hur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1. Which of the following sentences does not contain a mistake? </a:t>
            </a:r>
            <a:endParaRPr b="0" lang="en-US" sz="4000" spc="-1" strike="noStrike">
              <a:solidFill>
                <a:srgbClr val="ffffcc"/>
              </a:solidFill>
              <a:latin typeface="Tahoma"/>
            </a:endParaRPr>
          </a:p>
        </p:txBody>
      </p:sp>
      <p:sp>
        <p:nvSpPr>
          <p:cNvPr id="149" name="PlaceHolder 2"/>
          <p:cNvSpPr>
            <a:spLocks noGrp="1"/>
          </p:cNvSpPr>
          <p:nvPr>
            <p:ph/>
          </p:nvPr>
        </p:nvSpPr>
        <p:spPr>
          <a:xfrm>
            <a:off x="457200" y="2133720"/>
            <a:ext cx="8229600" cy="4495680"/>
          </a:xfrm>
          <a:prstGeom prst="rect">
            <a:avLst/>
          </a:prstGeom>
          <a:noFill/>
          <a:ln w="0">
            <a:noFill/>
          </a:ln>
        </p:spPr>
        <p:txBody>
          <a:bodyPr anchor="t">
            <a:normAutofit/>
          </a:bodyPr>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rch trees leans out over the river.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 stout legs help with leverage.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n hunting teach Billy to be patient.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grandfather's store sit on top of the mountai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2. Choose the answer that is written correctly.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kid Billy.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ither Little Ann or Old Dan fall in the ri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wo years seems like a long time for a 12 year old.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hears the wind in the top of the trees. </a:t>
            </a:r>
            <a:endParaRPr b="0" lang="en-US" sz="4000" spc="-1" strike="noStrike">
              <a:solidFill>
                <a:srgbClr val="ffffff"/>
              </a:solidFill>
              <a:latin typeface="Tahoma"/>
            </a:endParaRPr>
          </a:p>
          <a:p>
            <a:pPr marL="76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en More Examples:</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en though the pronouns I and you are singular you use the plural forms of the verb with them.</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Billy will catch a raccoon soon.</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 your boots the trap will work.</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re are many rules about subject verb agreement, but we are going to cover just one mor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44440"/>
            <a:ext cx="7927920" cy="508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n’t be confused by subjects that come at the end of the sentenc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60"/>
            <a:ext cx="8229600" cy="609588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as Billy’s parents. (Turn the sentence around and it will be clearer. Billy’s parents was standing in the back of the room.)</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ere Billy’s paren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360"/>
            <a:ext cx="8229600" cy="609588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 the passing out of trophies. (Turn the sentence around and it will be clearer. The passing out of trophies come at the end of the coon hun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s the passing out of trophi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01:41:54Z</dcterms:created>
  <dc:creator>Gay  Miller</dc:creator>
  <dc:description/>
  <dc:language>en-US</dc:language>
  <cp:lastModifiedBy>RomaK</cp:lastModifiedBy>
  <dcterms:modified xsi:type="dcterms:W3CDTF">2015-09-02T09:41:31Z</dcterms:modified>
  <cp:revision>28</cp:revision>
  <dc:subject/>
  <dc:title>Subject/Verb Agreement</dc:title>
</cp:coreProperties>
</file>